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7B9A-F0BC-4D02-BC95-695C71198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BB64-3E9D-408E-8CC9-E5FAE9D20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B1F-9176-47AF-863E-2A6A48EE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87B-031C-4AF2-8D3F-00BECF36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45F-50E8-4EAA-8543-AEAC8C84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4E00-F2E3-4E5A-8046-52C58461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951-A7E0-463B-93FA-07CC539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FFC-15EE-417C-BBBB-4EB4C421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6A8-E1D6-4045-913B-D5522B8A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A9D-D265-48C5-9700-ED523A1A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58C-2344-4967-A70C-D270EFCC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C8C-1447-4DDA-8A9E-EDBFE17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AF5-776B-41EB-AE79-2D65AFF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BE3-6873-4B4E-976C-B05CBF9C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ED62-A141-4BFB-8BD8-FA9D98593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3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South Ameri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803840" cy="768240"/>
            <a:chOff x="2743200" y="378000"/>
            <a:chExt cx="480384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80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800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South Amer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2:15Z</dcterms:modified>
  <cp:revision>118</cp:revision>
  <dc:subject/>
  <dc:title>Museum of World Stuff</dc:title>
</cp:coreProperties>
</file>